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3158-E0E8-4E5B-A89D-B381A656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178F-D8C8-452C-994B-DE0A2CA8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96C8-5060-4E7C-B525-DEBCB0C8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43A4-F3D8-4D3D-BB1D-E671AF7A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3688-0780-4D51-96B6-958F14DF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BFAF-26D5-4F03-B154-E823503B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50F9-175A-495C-9453-D69ECFB5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E710-D5BE-415D-8E1F-454ADA37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B0DD-AD3D-480A-BF0F-AB20EE54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1749-27C9-4D70-983C-8C8C8284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D513-4708-4021-9E7D-194AA561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129C-8A4D-4D64-911C-15F4AD34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B5C4-C903-4C88-986C-9A9792A8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ECA3-534E-45E3-9997-28B8A20B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B048-0181-49F7-B4F9-B521C42C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AE89-5FD7-4E20-8799-EB99E99D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A163-A5CE-4E32-898B-4265BF4B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4CEB-9515-4E11-B394-39EF5F17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07AD-A648-4489-9EDC-2A95F409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76E1-0B3D-41DB-A660-E8CB62E9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3A88-9AC3-4E1C-973E-9C2F5A6D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5E44-9046-4689-96A0-3E831C11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5978-9100-4C9A-B45D-8C3672EC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D137-ACD5-440D-B1B1-C379DBC4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9220-D41B-477F-B848-56AB2598F12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392C-3C7A-40D1-B361-DB7BE263778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file:///../../../Howell%20Spencer/LEGO&apos;S%20STH.ppt" TargetMode="External"/><Relationship Id="rId5" Type="http://schemas.openxmlformats.org/officeDocument/2006/relationships/hyperlink" Target="file:///../../../Howell%20Spencer/LEGO&apos;S%20STH.ppt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0" y="0"/>
            <a:ext cx="91440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>
                    <a:alphaModFix amt="86000"/>
                  </a:blip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EGO'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>
                  <a:alphaModFix amt="86000"/>
                </a:blip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3809880"/>
            <a:ext cx="2971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0373"/>
                </a:solidFill>
                <a:latin typeface="Arial"/>
              </a:rPr>
              <a:t>Spenc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0373"/>
                </a:solidFill>
                <a:latin typeface="Arial"/>
              </a:rPr>
              <a:t>Monday, September 27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0373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0373"/>
                </a:solidFill>
                <a:latin typeface="Arial"/>
              </a:rPr>
              <a:t>Computer#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vention:lego’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lovable bricks Lego's were invented in 1934 of wo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go’s soon changed from wood to brightly colored plasti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1955 Lego’s launched  as the new system of pla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go’s made a big hit on adults and childr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go’s sustained a big field and kept it like that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ventor: Ole Kirk Christians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was born in 1891 in Filskov Denmar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1944 his toy factory burned down but his focus was still on toy’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ristiansen’s son started to make the wooden toy’s out of brightly colored plasti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le Kirk deeded when his son became vice President of his compan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on the little plastic bricks were named Lego’s, the whole system of play.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Christiansen"/>
          <p:cNvPicPr/>
          <p:nvPr/>
        </p:nvPicPr>
        <p:blipFill>
          <a:blip r:embed="rId1"/>
          <a:srcRect l="34352" t="0" r="0" b="0"/>
          <a:stretch/>
        </p:blipFill>
        <p:spPr>
          <a:xfrm>
            <a:off x="0" y="0"/>
            <a:ext cx="5257800" cy="3048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Christiansen"/>
          <p:cNvPicPr/>
          <p:nvPr/>
        </p:nvPicPr>
        <p:blipFill>
          <a:blip r:embed="rId2"/>
          <a:stretch/>
        </p:blipFill>
        <p:spPr>
          <a:xfrm>
            <a:off x="5257800" y="0"/>
            <a:ext cx="3886200" cy="5334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7200" y="5043600"/>
            <a:ext cx="4724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6172200"/>
            <a:ext cx="891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0" y="3057480"/>
            <a:ext cx="5257800" cy="2276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600200" y="5715000"/>
            <a:ext cx="655308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Lemelson,MIT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 program,Legos,10/14/10//http;//web,MIT,edu/invent/iow/Chistiansen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16Z</dcterms:created>
  <dc:creator>install</dc:creator>
  <dc:description/>
  <dc:language>en-US</dc:language>
  <cp:lastModifiedBy>install</cp:lastModifiedBy>
  <dcterms:modified xsi:type="dcterms:W3CDTF">2010-10-14T17:29:23Z</dcterms:modified>
  <cp:revision>16</cp:revision>
  <dc:subject/>
  <dc:title>Slide 1</dc:title>
</cp:coreProperties>
</file>